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290-F56F-43FC-9D2A-0C4E7825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C14-44CE-436F-A46F-A7C9CEF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72D-D10E-4767-A4CC-04039EA3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D47-B8A9-48F4-BDFB-772F5A51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481-E9C8-49A0-96DB-E0C37F19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FAA-9D48-450A-AB25-5A9CB2FE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4B7-5483-489D-BE57-39384EA8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69A-2551-4E0F-98D4-01B0405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327-4727-4EFE-B827-5A52F1F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FA5-3910-47D3-873D-63A2619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5EC-8C6F-44E6-BDEE-CACC900D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78B-A756-401D-88BE-ADEC0C9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0E44-E2DA-407E-8716-C9BB2E6EF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ce.k12tn.net/survival/hatchet/hatchet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ch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Gary Paul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717560" cy="2819520"/>
          </a:xfrm>
          <a:prstGeom prst="rect">
            <a:avLst/>
          </a:prstGeom>
          <a:ln w="0">
            <a:noFill/>
          </a:ln>
        </p:spPr>
      </p:pic>
      <p:sp>
        <p:nvSpPr>
          <p:cNvPr id="44" name="Tree"/>
          <p:cNvSpPr/>
          <p:nvPr/>
        </p:nvSpPr>
        <p:spPr>
          <a:xfrm>
            <a:off x="457200" y="533520"/>
            <a:ext cx="2286000" cy="220968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re, number of pages,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fiction and 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9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- forest/ woods/ Canada in the presen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summaries and onlin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e.k12tn.net/survival/hatchet/hatchet.ht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bc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an Robe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12-14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New York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ents divor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400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514600" y="2437920"/>
            <a:ext cx="27432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4382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8328800">
            <a:off x="2965320" y="38163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846600">
            <a:off x="4982760" y="3625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5867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tchet- Story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and Attempts to solve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- what happens in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is flying to Canada to see his dad and the pilot has a heart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e crashes Brian is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Brian tries to solve hi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n must survive on his 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builds a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uses hatchet to make sp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s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bows and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, tries to reach the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or’s Messages/Them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the 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teachers hope we have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more independent so that you will be more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utside the box to solve you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o never give up even when there seems like there is no h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ng 4.5 out of 5 st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sons for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Paulsen’s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d different examples of good luck and bad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d the layout of all the bad things that happened to B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ent too fast and you’d have to back up and reread to make sure you knew what was go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 from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 put in a fi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xth graders going to Coolidge and Park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who like adventures, who like camping, or outdoorsy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ke books that don’t have a lot of characters to keep track of (since the story is really all about Brian dealing with himself and his own fee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3:39:56Z</dcterms:created>
  <dc:creator>hsellers</dc:creator>
  <dc:description/>
  <dc:language>en-US</dc:language>
  <cp:lastModifiedBy>hsellers</cp:lastModifiedBy>
  <dcterms:modified xsi:type="dcterms:W3CDTF">2011-08-24T14:36:13Z</dcterms:modified>
  <cp:revision>3</cp:revision>
  <dc:subject/>
  <dc:title>Hatchet </dc:title>
</cp:coreProperties>
</file>